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036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1AEBF5-73F0-4C1A-AD2C-8D0A3FDD7C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59480" y="883620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00CF094F-27FA-4927-AB76-0EDC6EF63C4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6920" y="704880"/>
            <a:ext cx="4619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B0810F-CE81-4342-A7D0-DC3B0AE6327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7280" y="7048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DBD060-60F9-4207-BD38-BE280041AEF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227B83-EA2C-492D-A5FD-5E1A2EDD7E2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0DCF6C-94CB-4BC2-87B9-0E3125A0BBD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BCCA07-91B0-4AC5-89FF-8304F802572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9381011-6185-4D6D-807C-F839CAEAB74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E6253737-9EA1-4EB4-A00D-609986A267C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0F39C9FC-E4CB-48FF-89DE-B7E92D4B39F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252440"/>
            <a:ext cx="73137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4: Planning I - Measures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ing process starts with an estimate of the job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estimating the size of the product that you plan to build, you can better judge the amount of work needed to build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you can estimate the product size, you need a consistent and repeatable way to describe the product’s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other words, you need to select an appropriate size meas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ment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riteria for a size measure are that it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ful fo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ly countable/measur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will discuss these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ful for Plan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720" y="1709640"/>
            <a:ext cx="75657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imary goal in planning is to estimate the effort for a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size measure to be useful during planning, it must help you to estimate the effort for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help you estimate the effort for the job, there must be a relationship between the size measure and the effort for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 relationship exists between a size measure and effort, then the size measure can be used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 illustrates such a relationship for writing pages of text for a 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ample: Text Pages versus Effor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369720" y="1273320"/>
          <a:ext cx="7797960" cy="55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1273320"/>
                    <a:ext cx="779796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ci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concern with precision for a size measure is the degree to which the measure is completely def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wo people measure the same thing, will they get the same resul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requires a precise size measurement defin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irectly Countab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1736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measure must be directly countable or measurable in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of directly countable measur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g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agraph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a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p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of something that is not directly countable in a document are themes or top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ffort Meas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e size measure depends on the job, the effort measure is always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cerns with measuring time are the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included in the time measur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recision is used to measure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will discuss these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840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What is Included in the Time Measure?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you are looking for a relationship between size and effort, only the time spent actually working on a task (“time on task”) should be inclu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ruptions such as phone calls, rest breaks, and office convers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highly variabl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not related to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be excluded from task time in order to determine the size versus time relationshi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engineers find that they spend less than 50% of their time on ta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Measurement Preci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on projects is often measured in person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is useful for financial accounting systems, it is not useful for tracking, analyzing, or improving personal proces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rarely work on one thing for more than an hour or tw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, effort is measured in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easure is precise enoug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decide to precisely measure time, the units do not make much differ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1736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some historical data from pas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characteristics (candidate size measur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al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nk the products by development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what characteristics distinguish those products that took the greatest effort from those that took the le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if the candidate size measure is related to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graph with the candidate size measure on the horizontal axis and effort on the vertical ax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ot each pair of historical data (candidate size measure, effort) as a point on the grap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oints define a line, then the candidate size measure is related to effort and can be used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may be no single best size measure.  A combination of size measures could be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:  Text Pages versus Writing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83" name="Object 5"/>
          <p:cNvGraphicFramePr/>
          <p:nvPr/>
        </p:nvGraphicFramePr>
        <p:xfrm>
          <a:off x="433440" y="1398600"/>
          <a:ext cx="7772400" cy="54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398600"/>
                    <a:ext cx="7772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: LOC versus Development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276120" y="1335240"/>
          <a:ext cx="775188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335240"/>
                    <a:ext cx="775188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ffort Directl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not find a good size measure, you may have to estimate development time direc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a lot of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e new work with pa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dge the likely developmen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mary purpose of planning is to help you to make commitments that you can m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 planning framework, effort estimates are based on estimates of the product’s size and your historical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mary criteria for a size measurement is that it is directly related to effort, i.e., it is useful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 Selection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ercis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how to test the correlation of potential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size measure a process that you use a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wo parts to this exerci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rt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size and effort data on two candidate size measur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graphs to test the data for a relation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best size meas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395240" y="5227560"/>
            <a:ext cx="1773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1960" y="4862520"/>
            <a:ext cx="7304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rt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180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at least three potential size measures a process that you use a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potential size measures using the following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ful for planning (directly related to effor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ly def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ly measur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395240" y="5227560"/>
            <a:ext cx="1773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3801960" y="4862520"/>
            <a:ext cx="7304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:  Part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ch measure - chapters or pages - best correlates with effor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ch measure would be best to use for planning a new boo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:  Part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 measures may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agrap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a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PSP planning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value of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size measure for something that you do a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and effort measu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a size meas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9028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: Step 1 in Your Proces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920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sinesses operate on commitments. They contract to provide a product or service 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agreed-upon pri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agreed-upon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businesses must make commitments that they can meet at a prof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commitments that they can meet at a profit, businesses must develop plans that accurately represent what they can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: Why it Should be Step 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s are important within an organizatio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management and your teammates ask you to make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you will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you will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will complete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commitments that you can meet, you need a plan that accurately represents what you can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ditional Benefits of a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lan helps you to be more efficient. 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s you as you do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s you from doing things in the wrong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s you focused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lan helps you to track your status. 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if you are on schedule, ahead of schedule, or behind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if you can still meet your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your manager and teammates informed of your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a Plan Should Contai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descri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siz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big is i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ar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you are going to do the wor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you will do first, second, and so 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hours will it requir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re you able to work on i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will you finish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he PSP Project Planning Framework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279520" y="165744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79520" y="2451240"/>
            <a:ext cx="1397160" cy="658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nceptu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279520" y="336060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279520" y="4191120"/>
            <a:ext cx="1397160" cy="58572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79520" y="5024520"/>
            <a:ext cx="139716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2279520" y="5783400"/>
            <a:ext cx="139716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velo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059360" y="5743440"/>
            <a:ext cx="1622160" cy="6987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, resource,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129360" y="5900760"/>
            <a:ext cx="102564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4135320" y="4986360"/>
            <a:ext cx="1428840" cy="6969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vailab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35320" y="4138560"/>
            <a:ext cx="1428840" cy="7858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059360" y="3263760"/>
            <a:ext cx="1527120" cy="7876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928880" y="1938240"/>
            <a:ext cx="2952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3016080" y="229392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3683160" y="607536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5689440" y="6064200"/>
            <a:ext cx="4352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445080" y="3661920"/>
            <a:ext cx="0" cy="2241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H="1">
            <a:off x="5613120" y="3660840"/>
            <a:ext cx="84276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613120" y="4557600"/>
            <a:ext cx="8110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 flipH="1">
            <a:off x="3682800" y="365112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3665160" y="4557600"/>
            <a:ext cx="460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H="1">
            <a:off x="3683160" y="5316480"/>
            <a:ext cx="4428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3016080" y="320184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3016080" y="403560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3016080" y="486900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3016080" y="562608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Line 33"/>
          <p:cNvSpPr/>
          <p:nvPr/>
        </p:nvSpPr>
        <p:spPr>
          <a:xfrm flipH="1">
            <a:off x="1906200" y="6037200"/>
            <a:ext cx="3301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5613480" y="5316480"/>
            <a:ext cx="838080" cy="0"/>
          </a:xfrm>
          <a:prstGeom prst="line">
            <a:avLst/>
          </a:prstGeom>
          <a:ln w="12600">
            <a:solidFill>
              <a:srgbClr val="39536b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7151760" y="6089760"/>
            <a:ext cx="406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725400" y="166680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725400" y="571644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7561440" y="5773680"/>
            <a:ext cx="117288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por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730080" y="3811680"/>
            <a:ext cx="1298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7452720" y="5181480"/>
            <a:ext cx="147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 flipV="1">
            <a:off x="8137440" y="5482800"/>
            <a:ext cx="0" cy="274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 flipH="1">
            <a:off x="6516720" y="5315040"/>
            <a:ext cx="1006560" cy="14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 flipV="1">
            <a:off x="1344600" y="234144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 flipV="1">
            <a:off x="1332000" y="418932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Oval 45"/>
          <p:cNvSpPr/>
          <p:nvPr/>
        </p:nvSpPr>
        <p:spPr>
          <a:xfrm>
            <a:off x="5784840" y="1682640"/>
            <a:ext cx="555480" cy="3081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5734080" y="2133720"/>
            <a:ext cx="660240" cy="307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920" bIns="25920" anchor="ctr">
            <a:noAutofit/>
          </a:bodyPr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6482160" y="1682640"/>
            <a:ext cx="8978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te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6481800" y="2114640"/>
            <a:ext cx="955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20:43:51Z</cp:lastPrinted>
  <dcterms:modified xsi:type="dcterms:W3CDTF">2018-09-06T00:16:03Z</dcterms:modified>
  <cp:revision>161</cp:revision>
  <dc:subject/>
  <dc:title>No Slide Title</dc:title>
</cp:coreProperties>
</file>